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B39-121F-499E-94C3-EBAC3A74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0CD-DE91-4C95-9E99-61EB4765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619-B6DE-41B8-84B9-353AF35C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9AD-F461-4079-B258-3E49EA32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365-8E6F-46BE-A30F-44A9D7B8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358-EC43-47B3-B987-B76E6778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457-3CB8-4715-8BDE-CE527918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6C6-8264-4BC7-84B0-8C036D15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9EF-8607-415F-9E62-D191BB8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6A2-E919-41A2-80D7-AF3F5360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FC3-37E7-482E-AFA2-54F600E1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30F-9CBC-4915-91E8-81F3D59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8E736-1958-4330-8A01-2B1B6D847F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 SSH2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341360"/>
            <a:ext cx="8353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49360"/>
            <a:ext cx="2303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549360"/>
            <a:ext cx="180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981000"/>
            <a:ext cx="935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1773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125360"/>
            <a:ext cx="180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buflen = READAMOUNT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6237360"/>
            <a:ext cx="4537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5445000"/>
            <a:ext cx="3240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by the recv(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5300640"/>
            <a:ext cx="194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5300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3933720"/>
            <a:ext cx="201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393372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429264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429264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4149720"/>
            <a:ext cx="863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724280"/>
            <a:ext cx="208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78136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278136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637000"/>
            <a:ext cx="647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2637000"/>
            <a:ext cx="2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27320" y="2060640"/>
            <a:ext cx="1800" cy="57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sing one SSH2 pa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turning plain data passed in SSH2_MSG_CHANNEL_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4:39:10Z</dcterms:modified>
  <cp:revision>351</cp:revision>
  <dc:subject/>
  <dc:title>DDEのしくみ</dc:title>
</cp:coreProperties>
</file>