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CEB-372E-4A7F-964E-17565FFD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5BAA-2BDF-417C-9166-D2CB6486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432E-E31D-4D23-9371-65A0A61D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947-9D14-49BC-9DC3-B2D0ABA2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290-48B5-49F9-9CF3-F9883A11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D34A-81BB-4E71-81E6-CAFF682B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E651-3A0D-4C41-BA28-B5E778F3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8BA-6A79-487A-955F-45DB4021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6BA5-48D9-4F12-97C7-CF0EFF1C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54AD-088E-408A-927B-4C8CD9ED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101A-A44D-499B-BA1E-BA2B483E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FFD-EC4C-4898-92D4-51D8898D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7DCE5-9FE5-4DAA-BE48-45CC466E851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Authentication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68360" y="1268280"/>
            <a:ext cx="1800" cy="1729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1268280"/>
            <a:ext cx="1440" cy="1729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68360" y="155736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265120" y="191772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a passwor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5120" y="227664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5120" y="266076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349360"/>
            <a:ext cx="1440000" cy="530280"/>
          </a:xfrm>
          <a:prstGeom prst="wedgeRoundRectCallout">
            <a:avLst>
              <a:gd name="adj1" fmla="val 80638"/>
              <a:gd name="adj2" fmla="val 823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firmation of successful authenti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invi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68360" y="4897440"/>
            <a:ext cx="3167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5120" y="525780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5120" y="561672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65120" y="6000840"/>
            <a:ext cx="31734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4508640"/>
            <a:ext cx="1800" cy="18000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 Authentication(public 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4508640"/>
            <a:ext cx="1440" cy="18000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public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6000" y="4579920"/>
            <a:ext cx="1836720" cy="361800"/>
          </a:xfrm>
          <a:prstGeom prst="wedgeRoundRectCallout">
            <a:avLst>
              <a:gd name="adj1" fmla="val -69541"/>
              <a:gd name="adj2" fmla="val 4204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atching authorized_key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300640"/>
            <a:ext cx="1584360" cy="603360"/>
          </a:xfrm>
          <a:prstGeom prst="wedgeRoundRectCallout">
            <a:avLst>
              <a:gd name="adj1" fmla="val 68421"/>
              <a:gd name="adj2" fmla="val 1814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signature generated using private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ifying the signa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 Authentication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1052640"/>
            <a:ext cx="1440" cy="5545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93080" y="1052640"/>
            <a:ext cx="1440" cy="5545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1052640"/>
            <a:ext cx="1800" cy="5545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00720" y="3013200"/>
            <a:ext cx="25891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497480" y="3373560"/>
            <a:ext cx="25956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497480" y="5776920"/>
            <a:ext cx="25956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497480" y="6161040"/>
            <a:ext cx="25956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360" y="5605560"/>
            <a:ext cx="1440000" cy="585720"/>
          </a:xfrm>
          <a:prstGeom prst="wedgeRoundRectCallout">
            <a:avLst>
              <a:gd name="adj1" fmla="val 75342"/>
              <a:gd name="adj2" fmla="val -1944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warding signature generated using private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atch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ifying the signa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2104920"/>
            <a:ext cx="27370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760400" y="1663560"/>
            <a:ext cx="27432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500120"/>
            <a:ext cx="1296720" cy="515880"/>
          </a:xfrm>
          <a:prstGeom prst="wedgeRoundRectCallout">
            <a:avLst>
              <a:gd name="adj1" fmla="val 65763"/>
              <a:gd name="adj2" fmla="val 6519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all registered public key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ep sending public keys until PK_OK is recei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63640" y="5057640"/>
            <a:ext cx="27370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760400" y="4616280"/>
            <a:ext cx="27432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ing public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3887640"/>
            <a:ext cx="1150920" cy="792360"/>
          </a:xfrm>
          <a:prstGeom prst="wedgeRoundRectCallout">
            <a:avLst>
              <a:gd name="adj1" fmla="val -70134"/>
              <a:gd name="adj2" fmla="val 4231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signing reque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452840"/>
            <a:ext cx="1296720" cy="587520"/>
          </a:xfrm>
          <a:prstGeom prst="wedgeRoundRectCallout">
            <a:avLst>
              <a:gd name="adj1" fmla="val 65763"/>
              <a:gd name="adj2" fmla="val 51222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signature generated using private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ing public k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2-01T14:52:57Z</dcterms:modified>
  <cp:revision>368</cp:revision>
  <dc:subject/>
  <dc:title>DDEのしくみ</dc:title>
</cp:coreProperties>
</file>