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3600" cy="124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EB11-4878-43A1-AAA8-30703E90C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5799-6DA8-4D0B-8F19-BDE58DE7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73B1-7679-4CF9-8DB9-30E4F8E23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87C0-D945-4735-8D9B-0FCB11054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21DB-BDC2-4D0D-BC0A-DF85C666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2EFB-42CB-4AD3-9541-6E505FA1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0499-D57E-4B65-89A1-4065EE90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CDA1-A92B-46EC-BAEC-B20F2DE0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312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A76B-7E51-447F-9F4F-E4A07912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ED49-EB71-4CB9-930E-DF697AC5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A3D1-D7EA-4481-B730-C5D7C218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AB70-AFF2-4C8E-A294-CF271C6B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93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860150-7D95-4977-AC71-334CB91AAEE3}" type="slidenum">
              <a:rPr b="0" lang="ja-JP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 Libr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2352600" y="1089000"/>
            <a:ext cx="1444680" cy="45396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4376880" y="1089000"/>
            <a:ext cx="1296720" cy="45396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Line 5"/>
          <p:cNvSpPr/>
          <p:nvPr/>
        </p:nvSpPr>
        <p:spPr>
          <a:xfrm>
            <a:off x="3800520" y="1317600"/>
            <a:ext cx="57636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124000" y="936720"/>
            <a:ext cx="5100840" cy="1368360"/>
          </a:xfrm>
          <a:prstGeom prst="rect">
            <a:avLst/>
          </a:prstGeom>
          <a:noFill/>
          <a:ln w="3240">
            <a:solidFill>
              <a:srgbClr val="3a5f8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2201760" y="1641600"/>
            <a:ext cx="1749600" cy="5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Calibri"/>
              </a:rPr>
              <a:t>Tera Term Appl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5724360" y="1052640"/>
            <a:ext cx="144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ular Expressions Libr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2352600" y="2841480"/>
            <a:ext cx="1444680" cy="45432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4376880" y="2835360"/>
            <a:ext cx="1296720" cy="45396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12"/>
          <p:cNvSpPr/>
          <p:nvPr/>
        </p:nvSpPr>
        <p:spPr>
          <a:xfrm>
            <a:off x="3797280" y="3087720"/>
            <a:ext cx="57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2124000" y="2556000"/>
            <a:ext cx="5100840" cy="1501560"/>
          </a:xfrm>
          <a:prstGeom prst="rect">
            <a:avLst/>
          </a:prstGeom>
          <a:noFill/>
          <a:ln w="3240">
            <a:solidFill>
              <a:srgbClr val="3a5f8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2201760" y="3394080"/>
            <a:ext cx="17496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Calibri"/>
              </a:rPr>
              <a:t>Macro Appl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5"/>
          <p:cNvSpPr/>
          <p:nvPr/>
        </p:nvSpPr>
        <p:spPr>
          <a:xfrm>
            <a:off x="5724360" y="2805120"/>
            <a:ext cx="144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ular Expressions Libr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" name="グループ化 1"/>
          <p:cNvGrpSpPr/>
          <p:nvPr/>
        </p:nvGrpSpPr>
        <p:grpSpPr>
          <a:xfrm>
            <a:off x="2095560" y="4441680"/>
            <a:ext cx="5102280" cy="1901880"/>
            <a:chOff x="2095560" y="4441680"/>
            <a:chExt cx="5102280" cy="1901880"/>
          </a:xfrm>
        </p:grpSpPr>
        <p:sp>
          <p:nvSpPr>
            <p:cNvPr id="61" name="Rectangle 17"/>
            <p:cNvSpPr/>
            <p:nvPr/>
          </p:nvSpPr>
          <p:spPr>
            <a:xfrm>
              <a:off x="2324160" y="4593960"/>
              <a:ext cx="1444680" cy="453960"/>
            </a:xfrm>
            <a:prstGeom prst="rect">
              <a:avLst/>
            </a:prstGeom>
            <a:solidFill>
              <a:srgbClr val="c6d9f1"/>
            </a:solidFill>
            <a:ln w="3240">
              <a:solidFill>
                <a:srgbClr val="3a5f8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txssh.dl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8"/>
            <p:cNvSpPr/>
            <p:nvPr/>
          </p:nvSpPr>
          <p:spPr>
            <a:xfrm>
              <a:off x="4381560" y="4593960"/>
              <a:ext cx="1292040" cy="453960"/>
            </a:xfrm>
            <a:prstGeom prst="rect">
              <a:avLst/>
            </a:prstGeom>
            <a:noFill/>
            <a:ln w="3240">
              <a:solidFill>
                <a:srgbClr val="3a5f8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penSS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9"/>
            <p:cNvSpPr/>
            <p:nvPr/>
          </p:nvSpPr>
          <p:spPr>
            <a:xfrm>
              <a:off x="4381560" y="5127480"/>
              <a:ext cx="1292040" cy="453960"/>
            </a:xfrm>
            <a:prstGeom prst="rect">
              <a:avLst/>
            </a:prstGeom>
            <a:noFill/>
            <a:ln w="3240">
              <a:solidFill>
                <a:srgbClr val="3a5f8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zli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20"/>
            <p:cNvSpPr/>
            <p:nvPr/>
          </p:nvSpPr>
          <p:spPr>
            <a:xfrm>
              <a:off x="4381560" y="5661000"/>
              <a:ext cx="1292040" cy="453960"/>
            </a:xfrm>
            <a:prstGeom prst="rect">
              <a:avLst/>
            </a:prstGeom>
            <a:noFill/>
            <a:ln w="3240">
              <a:solidFill>
                <a:srgbClr val="3a5f8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uTT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21"/>
            <p:cNvSpPr/>
            <p:nvPr/>
          </p:nvSpPr>
          <p:spPr>
            <a:xfrm>
              <a:off x="3770280" y="4822560"/>
              <a:ext cx="60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22"/>
            <p:cNvSpPr/>
            <p:nvPr/>
          </p:nvSpPr>
          <p:spPr>
            <a:xfrm flipH="1">
              <a:off x="4071600" y="5354640"/>
              <a:ext cx="30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23"/>
            <p:cNvSpPr/>
            <p:nvPr/>
          </p:nvSpPr>
          <p:spPr>
            <a:xfrm flipH="1">
              <a:off x="4071600" y="5889600"/>
              <a:ext cx="30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24"/>
            <p:cNvSpPr/>
            <p:nvPr/>
          </p:nvSpPr>
          <p:spPr>
            <a:xfrm>
              <a:off x="4076640" y="4822560"/>
              <a:ext cx="0" cy="106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25"/>
            <p:cNvSpPr/>
            <p:nvPr/>
          </p:nvSpPr>
          <p:spPr>
            <a:xfrm>
              <a:off x="2095560" y="4441680"/>
              <a:ext cx="5102280" cy="1901880"/>
            </a:xfrm>
            <a:prstGeom prst="rect">
              <a:avLst/>
            </a:prstGeom>
            <a:noFill/>
            <a:ln w="3240">
              <a:solidFill>
                <a:srgbClr val="3a5f8b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6"/>
            <p:cNvSpPr/>
            <p:nvPr/>
          </p:nvSpPr>
          <p:spPr>
            <a:xfrm>
              <a:off x="2324160" y="5127480"/>
              <a:ext cx="14446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70c0"/>
                  </a:solidFill>
                  <a:latin typeface="Calibri"/>
                </a:rPr>
                <a:t>SSH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70c0"/>
                  </a:solidFill>
                  <a:latin typeface="Calibri"/>
                </a:rPr>
                <a:t>Modul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7"/>
            <p:cNvSpPr/>
            <p:nvPr/>
          </p:nvSpPr>
          <p:spPr>
            <a:xfrm>
              <a:off x="5677200" y="4589280"/>
              <a:ext cx="12920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Cryptographic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Libra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28"/>
            <p:cNvSpPr/>
            <p:nvPr/>
          </p:nvSpPr>
          <p:spPr>
            <a:xfrm>
              <a:off x="5677200" y="5122800"/>
              <a:ext cx="12920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Compression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Libra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29"/>
            <p:cNvSpPr/>
            <p:nvPr/>
          </p:nvSpPr>
          <p:spPr>
            <a:xfrm>
              <a:off x="5677200" y="5661000"/>
              <a:ext cx="14446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Pageant Interaction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Libra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" name="Rectangle 11"/>
          <p:cNvSpPr/>
          <p:nvPr/>
        </p:nvSpPr>
        <p:spPr>
          <a:xfrm>
            <a:off x="4376880" y="3435480"/>
            <a:ext cx="1296720" cy="45396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FM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23"/>
          <p:cNvSpPr/>
          <p:nvPr/>
        </p:nvSpPr>
        <p:spPr>
          <a:xfrm flipH="1">
            <a:off x="3951360" y="3670200"/>
            <a:ext cx="4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24"/>
          <p:cNvSpPr/>
          <p:nvPr/>
        </p:nvSpPr>
        <p:spPr>
          <a:xfrm>
            <a:off x="3951360" y="3087720"/>
            <a:ext cx="0" cy="58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5724360" y="3400560"/>
            <a:ext cx="144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seudorandom number genera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cp:keywords/>
  <dc:language>en-US</dc:language>
  <cp:lastModifiedBy>maya negeta</cp:lastModifiedBy>
  <dcterms:modified xsi:type="dcterms:W3CDTF">2017-06-01T12:00:48Z</dcterms:modified>
  <cp:revision>89</cp:revision>
  <dc:subject/>
  <dc:title>TeraTermモジュール構成</dc:title>
</cp:coreProperties>
</file>