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5D04-AD17-456F-9FED-B0F54D2A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520"/>
            <a:ext cx="822816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960"/>
            <a:ext cx="822816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E6E0-7BE6-446D-90A4-916F0B78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52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59552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96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96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6423-F6BD-4138-9E67-C4D91890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520"/>
            <a:ext cx="264924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595520"/>
            <a:ext cx="264924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595520"/>
            <a:ext cx="264924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960"/>
            <a:ext cx="264924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960"/>
            <a:ext cx="264924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960"/>
            <a:ext cx="264924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5EBB-E4A9-405D-807B-9151A310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520"/>
            <a:ext cx="822816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5D6A-2339-4CF2-BCCD-9D16CE70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520"/>
            <a:ext cx="82281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3444-BE19-49C6-84EA-A7232959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520"/>
            <a:ext cx="40150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595520"/>
            <a:ext cx="40150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1F1B-3A8F-4D01-A18D-BDBBAEE3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EA02-ADC2-4CFF-A835-2FEC2B4C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DD77-2C46-4203-9767-538DE8C4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52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595520"/>
            <a:ext cx="40150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96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2E83-AAA4-4079-B902-2EA518ED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520"/>
            <a:ext cx="40150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552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96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A617-A805-4D8B-8677-BB5E1BA2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52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5520"/>
            <a:ext cx="401508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960"/>
            <a:ext cx="8228160" cy="21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3F05-A030-4224-BF86-795E58A2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520"/>
            <a:ext cx="82281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51040"/>
            <a:ext cx="2131920" cy="4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51040"/>
            <a:ext cx="2894040" cy="4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2280" cy="4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F014C-C4D5-45EC-8288-ED1B4108A18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 Connection Setup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68360" y="905040"/>
            <a:ext cx="1800" cy="569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35640" y="905040"/>
            <a:ext cx="1440" cy="569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68360" y="1203480"/>
            <a:ext cx="316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833400"/>
            <a:ext cx="1690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 conn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265120" y="163188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hanging version inform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5120" y="198900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5120" y="234648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5120" y="263196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ing to exchange key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5120" y="300024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664000"/>
            <a:ext cx="1439640" cy="550800"/>
          </a:xfrm>
          <a:prstGeom prst="wedgeRoundRectCallout">
            <a:avLst>
              <a:gd name="adj1" fmla="val 70722"/>
              <a:gd name="adj2" fmla="val 111134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enera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 ke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265120" y="342900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65120" y="378612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5120" y="415620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265120" y="465624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265120" y="501336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 key gener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ing from here communication 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crypted with DH key(common key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ing user authenti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265120" y="558468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265120" y="595296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5227560"/>
            <a:ext cx="4103640" cy="1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6000" y="3786120"/>
            <a:ext cx="1584360" cy="441360"/>
          </a:xfrm>
          <a:prstGeom prst="wedgeRoundRectCallout">
            <a:avLst>
              <a:gd name="adj1" fmla="val 79421"/>
              <a:gd name="adj2" fmla="val 2937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hecking “known_hosts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 Connection Setup Sequence(continu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68360" y="905040"/>
            <a:ext cx="1800" cy="569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905040"/>
            <a:ext cx="1440" cy="569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1197000"/>
            <a:ext cx="316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265120" y="155736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7280" y="431640"/>
            <a:ext cx="1548000" cy="863640"/>
          </a:xfrm>
          <a:prstGeom prst="wedgeRoundRectCallout">
            <a:avLst>
              <a:gd name="adj1" fmla="val 77981"/>
              <a:gd name="adj2" fmla="val 39000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ing list of supported  authentication methods. Method is set to “none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1986120"/>
            <a:ext cx="316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user name and passwor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265120" y="241452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ccessful authenti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68360" y="2851200"/>
            <a:ext cx="316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 session “session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265120" y="320832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68360" y="4284720"/>
            <a:ext cx="316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questing shell “pty-req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5120" y="465444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5011560"/>
            <a:ext cx="31672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 shell “shell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5120" y="544032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SSH server's window siz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265120" y="579744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265120" y="623736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shell inform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ssed to Tera Term Core. Tera Term then waits for recv() to return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ith enabled CheckAuthListFir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f disabled, user will need to choose correct authentication meth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2703600"/>
            <a:ext cx="1800360" cy="392040"/>
          </a:xfrm>
          <a:prstGeom prst="wedgeRoundRectCallout">
            <a:avLst>
              <a:gd name="adj1" fmla="val -59074"/>
              <a:gd name="adj2" fmla="val -18904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case of password authenti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68360" y="3570120"/>
            <a:ext cx="31672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ending agent request  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65120" y="392436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6000" y="3959280"/>
            <a:ext cx="1871640" cy="479520"/>
          </a:xfrm>
          <a:prstGeom prst="wedgeRoundRectCallout">
            <a:avLst>
              <a:gd name="adj1" fmla="val -57708"/>
              <a:gd name="adj2" fmla="val -94398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ith valid ForwardAg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72360" y="1655640"/>
            <a:ext cx="2411280" cy="863640"/>
          </a:xfrm>
          <a:prstGeom prst="wedgeRoundRectCallout">
            <a:avLst>
              <a:gd name="adj1" fmla="val -89074"/>
              <a:gd name="adj2" fmla="val -62907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list of supported authentication metho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 is returned, but not added to the server's log fi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 Connection Close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905040"/>
            <a:ext cx="1800" cy="569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35640" y="905040"/>
            <a:ext cx="1440" cy="569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1203480"/>
            <a:ext cx="316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265120" y="163188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g out from the shel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5120" y="206064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265120" y="256068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265120" y="3000240"/>
            <a:ext cx="3173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losing TCP session and notifying Tera Term Core that session was clos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2-01T15:31:14Z</dcterms:modified>
  <cp:revision>362</cp:revision>
  <dc:subject/>
  <dc:title>DDEのしくみ</dc:title>
</cp:coreProperties>
</file>