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5E1-0099-40AD-AFB4-024906F2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575-A29D-4D4F-BFDF-B0986F97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793-D1A1-4748-8AE7-3003E9E6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302-F6D8-4902-8D72-88C951F0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FB8-9033-421E-B9D2-8FDD169D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A9C-4569-419B-9374-8ED63DA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7BF-00E2-4853-A9A3-F50B064D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C23-10A6-42AE-B8D8-CA7F2CA7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F45-C835-4A5D-A7F0-A8BFF81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CBF-CBC9-463F-8F10-20BB22C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F57-209F-4B0F-98E8-5D9C8A0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A0E-58BC-48A3-A642-5CF3C3D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83EF6-03AD-438E-A852-37B1D5759E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out compress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68360" y="191628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484360" y="191628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d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635280" y="191628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4319640" y="314172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3635280" y="2421000"/>
            <a:ext cx="360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6084720" y="1413000"/>
            <a:ext cx="1151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48436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7236000" y="1773360"/>
            <a:ext cx="1440" cy="1150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8675640" y="1773360"/>
            <a:ext cx="1800" cy="2376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7236000" y="191628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635280" y="1773360"/>
            <a:ext cx="1800" cy="64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535640" y="4365720"/>
            <a:ext cx="14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Once the packet construction and encryption has been completed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SSH2 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CP communication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_packet_blocking (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tional Fiel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Packet Format(with compre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2997360"/>
            <a:ext cx="2016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2484360" y="2997360"/>
            <a:ext cx="1150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635280" y="2997360"/>
            <a:ext cx="289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ing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6732720" y="2997360"/>
            <a:ext cx="1439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by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1476360" y="5373720"/>
            <a:ext cx="6192720" cy="1106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yload compression happens before SSH2 packet is constructed and encryp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Packet is transmitted in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finish_send_packet_special (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compression payload size may incr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2055960" y="1268280"/>
            <a:ext cx="1433520" cy="284400"/>
            <a:chOff x="2055960" y="1268280"/>
            <a:chExt cx="1433520" cy="284400"/>
          </a:xfrm>
        </p:grpSpPr>
        <p:sp>
          <p:nvSpPr>
            <p:cNvPr id="96" name="Rectangle 20"/>
            <p:cNvSpPr/>
            <p:nvPr/>
          </p:nvSpPr>
          <p:spPr>
            <a:xfrm>
              <a:off x="205596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234324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263052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917800" y="1268280"/>
              <a:ext cx="28404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24"/>
            <p:cNvSpPr/>
            <p:nvPr/>
          </p:nvSpPr>
          <p:spPr>
            <a:xfrm>
              <a:off x="3205080" y="1268280"/>
              <a:ext cx="28440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AutoShape 25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500720" y="9079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 compr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3492360" y="836640"/>
            <a:ext cx="18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 flipH="1">
            <a:off x="5144760" y="836640"/>
            <a:ext cx="509400" cy="431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3924360" y="18446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Paylo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34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2484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6732720" y="2852640"/>
            <a:ext cx="1440" cy="792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8172360" y="2852640"/>
            <a:ext cx="1800" cy="1656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3959280" y="378936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4356000" y="465300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mission targ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cp:keywords/>
  <dc:language>en-US</dc:language>
  <cp:lastModifiedBy>maya negeta</cp:lastModifiedBy>
  <dcterms:modified xsi:type="dcterms:W3CDTF">2018-01-27T04:08:33Z</dcterms:modified>
  <cp:revision>307</cp:revision>
  <dc:subject/>
  <dc:title>DDEのしくみ</dc:title>
</cp:coreProperties>
</file>