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AB43C-9F9D-46A6-B6D1-C2921CD2F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07C03-D966-4800-9C1B-EEB9A512B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4BF37-17F5-42EB-B386-42D167679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80434-1B50-40AA-B67C-0A9604AB4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C65C7-34A4-4970-A262-F5464501D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C2467-E3B1-41E3-ADED-065FE0A83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E8FC2-500C-4B78-82F4-30D4B918D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11D76-C5CD-4C09-ACBF-F7117337B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36913-8AE2-4455-8D00-41AF37E7A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70F8C-D3DB-4564-BF55-B8DAF0084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254D4-586C-4DD6-89AE-723408CA7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DCE2A-B392-42B2-AB8D-119E3FAC9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26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CBDAD7-6558-44C4-8D2D-98164B12ED29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4360" y="115560"/>
            <a:ext cx="77724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seudo-Termi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79280" y="1125360"/>
            <a:ext cx="863640" cy="43200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a Te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79280" y="69228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340000" y="69228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68360" y="1125360"/>
            <a:ext cx="863640" cy="43200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42920" y="1341360"/>
            <a:ext cx="1225440" cy="180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27280" y="1844640"/>
            <a:ext cx="1079640" cy="2890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/dev/ptyX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95640" y="1844640"/>
            <a:ext cx="1079640" cy="2890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/dev/ttyX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132000" y="1341360"/>
            <a:ext cx="287640" cy="180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19640" y="1341360"/>
            <a:ext cx="1440" cy="50328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19640" y="1557360"/>
            <a:ext cx="1081080" cy="144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500720" y="1557360"/>
            <a:ext cx="1440" cy="28728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672000" y="863640"/>
            <a:ext cx="1403280" cy="576360"/>
          </a:xfrm>
          <a:prstGeom prst="wedgeRoundRectCallout">
            <a:avLst>
              <a:gd name="adj1" fmla="val -45231"/>
              <a:gd name="adj2" fmla="val 70657"/>
              <a:gd name="adj3" fmla="val 16667"/>
            </a:avLst>
          </a:prstGeom>
          <a:solidFill>
            <a:srgbClr val="ffff99"/>
          </a:solidFill>
          <a:ln cap="sq" w="9360">
            <a:solidFill>
              <a:srgbClr val="00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pen pseudo-terminal in openpty(3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050920" y="2565360"/>
            <a:ext cx="6696360" cy="180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547640" y="549360"/>
            <a:ext cx="1800" cy="5904000"/>
          </a:xfrm>
          <a:prstGeom prst="line">
            <a:avLst/>
          </a:prstGeom>
          <a:ln cap="sq" w="9360">
            <a:solidFill>
              <a:srgbClr val="00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547640" y="1052640"/>
            <a:ext cx="72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/2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979640" y="227664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spa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979640" y="2637000"/>
            <a:ext cx="100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rnel spa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484360" y="2997360"/>
            <a:ext cx="1152720" cy="71892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ster devi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ty_maste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067280" y="2997360"/>
            <a:ext cx="1152360" cy="71892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ave devi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ty_slav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067280" y="4221000"/>
            <a:ext cx="1152360" cy="71928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l li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ipli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N_TT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03640" y="2133720"/>
            <a:ext cx="1440" cy="863640"/>
          </a:xfrm>
          <a:prstGeom prst="line">
            <a:avLst/>
          </a:prstGeom>
          <a:ln cap="sq"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0" y="2133720"/>
            <a:ext cx="1440" cy="863640"/>
          </a:xfrm>
          <a:prstGeom prst="line">
            <a:avLst/>
          </a:prstGeom>
          <a:ln cap="sq"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635280" y="3357720"/>
            <a:ext cx="432000" cy="144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0" y="3716280"/>
            <a:ext cx="1440" cy="50472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867280" y="1125360"/>
            <a:ext cx="863640" cy="43200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e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843280" y="692280"/>
            <a:ext cx="3457440" cy="433080"/>
          </a:xfrm>
          <a:custGeom>
            <a:avLst/>
            <a:gdLst/>
            <a:ahLst/>
            <a:rect l="l" t="t" r="r" b="b"/>
            <a:pathLst>
              <a:path w="2178" h="273">
                <a:moveTo>
                  <a:pt x="91" y="273"/>
                </a:moveTo>
                <a:cubicBezTo>
                  <a:pt x="45" y="182"/>
                  <a:pt x="0" y="91"/>
                  <a:pt x="136" y="46"/>
                </a:cubicBezTo>
                <a:cubicBezTo>
                  <a:pt x="272" y="1"/>
                  <a:pt x="606" y="0"/>
                  <a:pt x="908" y="0"/>
                </a:cubicBezTo>
                <a:cubicBezTo>
                  <a:pt x="1210" y="0"/>
                  <a:pt x="1739" y="1"/>
                  <a:pt x="1951" y="46"/>
                </a:cubicBezTo>
                <a:cubicBezTo>
                  <a:pt x="2163" y="91"/>
                  <a:pt x="2170" y="182"/>
                  <a:pt x="2178" y="273"/>
                </a:cubicBezTo>
              </a:path>
            </a:pathLst>
          </a:custGeom>
          <a:noFill/>
          <a:ln cap="sq"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443640" y="260280"/>
            <a:ext cx="1152720" cy="576360"/>
          </a:xfrm>
          <a:prstGeom prst="wedgeRoundRectCallout">
            <a:avLst>
              <a:gd name="adj1" fmla="val -73689"/>
              <a:gd name="adj2" fmla="val 45314"/>
              <a:gd name="adj3" fmla="val 16667"/>
            </a:avLst>
          </a:prstGeom>
          <a:solidFill>
            <a:srgbClr val="ffff99"/>
          </a:solidFill>
          <a:ln cap="sq" w="9360">
            <a:solidFill>
              <a:srgbClr val="00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s as a child pro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580000" y="1844640"/>
            <a:ext cx="792360" cy="21600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intf(3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80000" y="2276640"/>
            <a:ext cx="792360" cy="21564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rite(2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12000" y="1557360"/>
            <a:ext cx="1440" cy="28728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012000" y="2060640"/>
            <a:ext cx="1440" cy="21600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580000" y="2708280"/>
            <a:ext cx="792360" cy="360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_writ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012000" y="2492280"/>
            <a:ext cx="1440" cy="21600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651640" y="4005360"/>
            <a:ext cx="2520720" cy="115092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Y c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219640" y="4508640"/>
            <a:ext cx="432000" cy="1440"/>
          </a:xfrm>
          <a:prstGeom prst="line">
            <a:avLst/>
          </a:prstGeom>
          <a:ln cap="sq"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724360" y="4076640"/>
            <a:ext cx="792360" cy="28728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y_writ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580000" y="3357720"/>
            <a:ext cx="2521080" cy="360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F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771640" y="1557360"/>
            <a:ext cx="144720" cy="287280"/>
          </a:xfrm>
          <a:prstGeom prst="line">
            <a:avLst/>
          </a:prstGeom>
          <a:ln cap="sq" w="38160">
            <a:solidFill>
              <a:srgbClr val="333399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5000760" y="1484280"/>
            <a:ext cx="869760" cy="360360"/>
          </a:xfrm>
          <a:prstGeom prst="line">
            <a:avLst/>
          </a:prstGeom>
          <a:ln cap="sq" w="38160">
            <a:solidFill>
              <a:srgbClr val="ff33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012000" y="3068640"/>
            <a:ext cx="1440" cy="28908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012000" y="3716280"/>
            <a:ext cx="1440" cy="36036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093080" y="1844640"/>
            <a:ext cx="792000" cy="21600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canf(3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093080" y="2276640"/>
            <a:ext cx="792000" cy="21564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ad(2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32720" y="1341360"/>
            <a:ext cx="792000" cy="180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524720" y="1341360"/>
            <a:ext cx="1440" cy="50328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524720" y="2060640"/>
            <a:ext cx="1440" cy="216000"/>
          </a:xfrm>
          <a:prstGeom prst="line">
            <a:avLst/>
          </a:prstGeom>
          <a:ln cap="sq"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524720" y="2492280"/>
            <a:ext cx="1440" cy="216000"/>
          </a:xfrm>
          <a:prstGeom prst="line">
            <a:avLst/>
          </a:prstGeom>
          <a:ln cap="sq"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093080" y="2708280"/>
            <a:ext cx="792000" cy="360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_read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524720" y="3068640"/>
            <a:ext cx="1440" cy="28908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524720" y="3716280"/>
            <a:ext cx="1440" cy="360360"/>
          </a:xfrm>
          <a:prstGeom prst="line">
            <a:avLst/>
          </a:prstGeom>
          <a:ln cap="sq"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164360" y="4076640"/>
            <a:ext cx="792360" cy="28728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y_read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971640" y="5734080"/>
            <a:ext cx="1368360" cy="214200"/>
          </a:xfrm>
          <a:prstGeom prst="leftRightArrow">
            <a:avLst>
              <a:gd name="adj1" fmla="val 50000"/>
              <a:gd name="adj2" fmla="val 127173"/>
            </a:avLst>
          </a:prstGeom>
          <a:solidFill>
            <a:srgbClr val="0000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971640" y="6021360"/>
            <a:ext cx="1368360" cy="36036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indow size 128K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67280" y="5661000"/>
            <a:ext cx="1152360" cy="214200"/>
          </a:xfrm>
          <a:prstGeom prst="leftRightArrow">
            <a:avLst>
              <a:gd name="adj1" fmla="val 50000"/>
              <a:gd name="adj2" fmla="val 107098"/>
            </a:avLst>
          </a:prstGeom>
          <a:solidFill>
            <a:srgbClr val="0000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995640" y="6021360"/>
            <a:ext cx="1368360" cy="36036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indow size 4K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/>
  <dcterms:modified xsi:type="dcterms:W3CDTF">2015-11-30T16:28:07Z</dcterms:modified>
  <cp:revision>424</cp:revision>
  <dc:subject/>
  <dc:title>DDEのしくみ</dc:title>
</cp:coreProperties>
</file>