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40F-2C3B-4D12-8C0D-9529577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180-DEDE-45E3-A649-FF6671B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8F3-7DA6-46CF-83B1-1A774FA1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362-EA21-46D0-B963-8CA36D36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83E-F847-4DCE-979D-CD6C9F9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904-EF3C-4952-8802-D0AB16E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033-D2BD-4163-975C-E222A408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143-B8DB-4C1E-A0BB-BB2E880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51E-1413-4271-9313-7E8AD29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480-02EC-4D48-9E3A-7D2B405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C21-6FC5-4706-9E8A-0013B87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E42-9D59-4E59-B760-9260CAA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79E1-7254-4213-8718-ED321F8A0B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763560"/>
            <a:ext cx="144792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7635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2952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376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895480"/>
            <a:ext cx="12952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9072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76040" y="15238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76040" y="205740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76040" y="259092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990720"/>
            <a:ext cx="1800" cy="21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6040" y="3124080"/>
            <a:ext cx="31428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09480"/>
            <a:ext cx="3657600" cy="289584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7635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3733920" y="895320"/>
            <a:ext cx="213408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3733920" y="1066320"/>
            <a:ext cx="213408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grpSp>
        <p:nvGrpSpPr>
          <p:cNvPr id="63" name=""/>
          <p:cNvGrpSpPr/>
          <p:nvPr/>
        </p:nvGrpSpPr>
        <p:grpSpPr>
          <a:xfrm>
            <a:off x="3962520" y="1170000"/>
            <a:ext cx="1823760" cy="681120"/>
            <a:chOff x="3962520" y="1170000"/>
            <a:chExt cx="1823760" cy="681120"/>
          </a:xfrm>
        </p:grpSpPr>
        <p:sp>
          <p:nvSpPr>
            <p:cNvPr id="64" name=""/>
            <p:cNvSpPr/>
            <p:nvPr/>
          </p:nvSpPr>
          <p:spPr>
            <a:xfrm flipV="1">
              <a:off x="3962520" y="1169640"/>
              <a:ext cx="1747800" cy="681120"/>
            </a:xfrm>
            <a:custGeom>
              <a:avLst/>
              <a:gdLst/>
              <a:ahLst/>
              <a:rect l="l" t="t" r="r" b="b"/>
              <a:pathLst>
                <a:path w="6912" h="5806">
                  <a:moveTo>
                    <a:pt x="0" y="-1022"/>
                  </a:moveTo>
                  <a:lnTo>
                    <a:pt x="-1022" y="-1022"/>
                  </a:lnTo>
                  <a:lnTo>
                    <a:pt x="180" y="90"/>
                  </a:lnTo>
                  <a:lnTo>
                    <a:pt x="2840" y="0"/>
                  </a:lnTo>
                  <a:lnTo>
                    <a:pt x="5698" y="-2879"/>
                  </a:lnTo>
                  <a:lnTo>
                    <a:pt x="4057" y="0"/>
                  </a:lnTo>
                  <a:lnTo>
                    <a:pt x="5890" y="0"/>
                  </a:lnTo>
                  <a:lnTo>
                    <a:pt x="-1022" y="-1022"/>
                  </a:lnTo>
                  <a:lnTo>
                    <a:pt x="270" y="90"/>
                  </a:lnTo>
                  <a:lnTo>
                    <a:pt x="4868" y="318"/>
                  </a:lnTo>
                  <a:lnTo>
                    <a:pt x="4868" y="318"/>
                  </a:lnTo>
                  <a:lnTo>
                    <a:pt x="4868" y="794"/>
                  </a:lnTo>
                  <a:lnTo>
                    <a:pt x="4868" y="2927"/>
                  </a:lnTo>
                  <a:lnTo>
                    <a:pt x="-1022" y="-1022"/>
                  </a:lnTo>
                  <a:lnTo>
                    <a:pt x="1" y="90"/>
                  </a:lnTo>
                  <a:lnTo>
                    <a:pt x="4057" y="1905"/>
                  </a:lnTo>
                  <a:lnTo>
                    <a:pt x="2840" y="1905"/>
                  </a:lnTo>
                  <a:lnTo>
                    <a:pt x="2840" y="1905"/>
                  </a:lnTo>
                  <a:lnTo>
                    <a:pt x="-1022" y="1905"/>
                  </a:lnTo>
                  <a:lnTo>
                    <a:pt x="-1022" y="-102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1244520"/>
              <a:ext cx="174780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DE communication  between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34120" y="2743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3733560" y="2876040"/>
            <a:ext cx="16009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>
            <a:off x="3733560" y="3049560"/>
            <a:ext cx="1600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</p:cxnSp>
      <p:grpSp>
        <p:nvGrpSpPr>
          <p:cNvPr id="69" name=""/>
          <p:cNvGrpSpPr/>
          <p:nvPr/>
        </p:nvGrpSpPr>
        <p:grpSpPr>
          <a:xfrm>
            <a:off x="5715000" y="2005920"/>
            <a:ext cx="1424160" cy="647640"/>
            <a:chOff x="5715000" y="2005920"/>
            <a:chExt cx="1424160" cy="647640"/>
          </a:xfrm>
        </p:grpSpPr>
        <p:sp>
          <p:nvSpPr>
            <p:cNvPr id="70" name=""/>
            <p:cNvSpPr/>
            <p:nvPr/>
          </p:nvSpPr>
          <p:spPr>
            <a:xfrm flipH="1" flipV="1" rot="10800000">
              <a:off x="5715000" y="2005560"/>
              <a:ext cx="1366560" cy="647640"/>
            </a:xfrm>
            <a:custGeom>
              <a:avLst/>
              <a:gdLst/>
              <a:ahLst/>
              <a:rect l="l" t="t" r="r" b="b"/>
              <a:pathLst>
                <a:path w="5754" h="5523">
                  <a:moveTo>
                    <a:pt x="0" y="-972"/>
                  </a:moveTo>
                  <a:lnTo>
                    <a:pt x="-972" y="-972"/>
                  </a:lnTo>
                  <a:lnTo>
                    <a:pt x="180" y="90"/>
                  </a:lnTo>
                  <a:lnTo>
                    <a:pt x="2223" y="0"/>
                  </a:lnTo>
                  <a:lnTo>
                    <a:pt x="4460" y="-2739"/>
                  </a:lnTo>
                  <a:lnTo>
                    <a:pt x="3175" y="0"/>
                  </a:lnTo>
                  <a:lnTo>
                    <a:pt x="4782" y="0"/>
                  </a:lnTo>
                  <a:lnTo>
                    <a:pt x="-972" y="-972"/>
                  </a:lnTo>
                  <a:lnTo>
                    <a:pt x="270" y="90"/>
                  </a:lnTo>
                  <a:lnTo>
                    <a:pt x="3810" y="302"/>
                  </a:lnTo>
                  <a:lnTo>
                    <a:pt x="3810" y="302"/>
                  </a:lnTo>
                  <a:lnTo>
                    <a:pt x="3810" y="755"/>
                  </a:lnTo>
                  <a:lnTo>
                    <a:pt x="3810" y="2784"/>
                  </a:lnTo>
                  <a:lnTo>
                    <a:pt x="-972" y="-972"/>
                  </a:lnTo>
                  <a:lnTo>
                    <a:pt x="1" y="90"/>
                  </a:lnTo>
                  <a:lnTo>
                    <a:pt x="3175" y="1812"/>
                  </a:lnTo>
                  <a:lnTo>
                    <a:pt x="2223" y="1812"/>
                  </a:lnTo>
                  <a:lnTo>
                    <a:pt x="2223" y="1812"/>
                  </a:lnTo>
                  <a:lnTo>
                    <a:pt x="-972" y="1812"/>
                  </a:lnTo>
                  <a:lnTo>
                    <a:pt x="-972" y="-972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4200" y="2054160"/>
              <a:ext cx="13449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stens for local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rt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3920" y="2378160"/>
            <a:ext cx="16002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TC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92360"/>
            <a:ext cx="1371600" cy="76212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w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7162920" y="2971800"/>
            <a:ext cx="457920" cy="21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334120" y="350676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/>
          <p:nvPr/>
        </p:nvCxnSpPr>
        <p:spPr>
          <a:xfrm flipV="1">
            <a:off x="6248520" y="3199680"/>
            <a:ext cx="2160" cy="305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14920" y="2135160"/>
            <a:ext cx="1621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ra Term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343400"/>
            <a:ext cx="10670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343400"/>
            <a:ext cx="129564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343400"/>
            <a:ext cx="144792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752120" y="3585960"/>
            <a:ext cx="38124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9068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200400" y="3585960"/>
            <a:ext cx="380880" cy="685800"/>
          </a:xfrm>
          <a:custGeom>
            <a:avLst/>
            <a:gdLst/>
            <a:ahLst/>
            <a:rect l="l" t="t" r="r" b="b"/>
            <a:pathLst>
              <a:path w="50574" h="1905">
                <a:moveTo>
                  <a:pt x="0" y="202"/>
                </a:moveTo>
                <a:lnTo>
                  <a:pt x="25816" y="202"/>
                </a:lnTo>
                <a:lnTo>
                  <a:pt x="25816" y="0"/>
                </a:lnTo>
                <a:lnTo>
                  <a:pt x="-24758" y="0"/>
                </a:lnTo>
                <a:lnTo>
                  <a:pt x="-24758" y="202"/>
                </a:lnTo>
                <a:lnTo>
                  <a:pt x="1058" y="202"/>
                </a:lnTo>
                <a:lnTo>
                  <a:pt x="529" y="190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100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3434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17220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34340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95288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v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5564160"/>
            <a:ext cx="1523880" cy="45720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MeTTi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5181480"/>
            <a:ext cx="182880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Wizard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6172200"/>
            <a:ext cx="1523880" cy="457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14800"/>
            <a:ext cx="4572000" cy="144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867280"/>
            <a:ext cx="220968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114800"/>
            <a:ext cx="1440" cy="17524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91720" y="4114800"/>
            <a:ext cx="1440" cy="266688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867280"/>
            <a:ext cx="1440" cy="9144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6781680"/>
            <a:ext cx="2362320" cy="1800"/>
          </a:xfrm>
          <a:prstGeom prst="line">
            <a:avLst/>
          </a:prstGeom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0160" y="4826160"/>
            <a:ext cx="18954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LogMeTT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495680"/>
            <a:ext cx="83808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464832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79132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18148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48006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9960" y="101520"/>
            <a:ext cx="30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 Packag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612720"/>
            <a:ext cx="1396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cro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00600"/>
            <a:ext cx="396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ynamically loaded at Tera Ter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/>
  <dcterms:modified xsi:type="dcterms:W3CDTF">2015-11-30T16:22:49Z</dcterms:modified>
  <cp:revision>70</cp:revision>
  <dc:subject/>
  <dc:title>TeraTermモジュール構成</dc:title>
</cp:coreProperties>
</file>