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721-89A2-4732-897D-9B3D2FA6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BED-C38D-4257-A2BB-0449A471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E9B-4497-4138-A3B4-EBE99528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CCB-4071-4C8A-9E58-0554D093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006A-5140-4680-9817-3F6C48CF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DD1-2EE6-44A2-BEBA-5916E8D2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39E-F08C-4DFE-BF4C-EE9647FE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533-25DB-4C55-AAF8-A065FD06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C21-8377-408B-B282-B50C3C4A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6B6A-86F0-41B5-BB80-F3180F46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465-4F10-4F38-9AC7-FB53A774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70E-1F63-4C69-A73C-95477609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9B2B-5BB1-48EE-856A-CB17F7942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53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4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61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62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63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67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68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69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70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71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パディングサイ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73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5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6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78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79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0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81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82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85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86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87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88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89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0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91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2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3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4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5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96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97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8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2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4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6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3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Rectangle 38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9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0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41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42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AutoShape 44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5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6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7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8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9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0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1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3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4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5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6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7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9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0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 negeta</cp:lastModifiedBy>
  <dcterms:modified xsi:type="dcterms:W3CDTF">2018-01-27T04:07:34Z</dcterms:modified>
  <cp:revision>277</cp:revision>
  <dc:subject/>
  <dc:title>DDEのしくみ</dc:title>
</cp:coreProperties>
</file>