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F12-032E-427E-A771-C0BBBE31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91D-BF63-4143-80C2-445C1BBA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295-273F-4EDB-BE46-975F7A19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64F-5120-441D-B70F-6BC9DFAB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7FA-8F93-4535-B991-220E929E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482-93F3-496F-B1EC-0832E50E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84B-ECA3-4D26-905A-EC5A7C38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086-6AA6-4850-8D81-5833218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530-A141-4488-8CE9-ABF9BA9C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C0E-93D5-48C4-B0D7-7C0BC660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33C-C141-45B5-BFC2-646F72A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756-461D-406D-9E3C-B8C3ABA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413E7-61CF-49C1-8735-F161B97211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stablishing SSH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04640"/>
            <a:ext cx="1440" cy="626436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125360"/>
            <a:ext cx="504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40360" y="549360"/>
          <a:ext cx="2666880" cy="1358280"/>
        </p:xfrm>
        <a:graphic>
          <a:graphicData uri="http://schemas.openxmlformats.org/drawingml/2006/table">
            <a:tbl>
              <a:tblPr/>
              <a:tblGrid>
                <a:gridCol w="1224720"/>
                <a:gridCol w="1442160"/>
              </a:tblGrid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k Dest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27280" y="692280"/>
            <a:ext cx="757440" cy="576000"/>
          </a:xfrm>
          <a:prstGeom prst="wedgeRoundRectCallout">
            <a:avLst>
              <a:gd name="adj1" fmla="val -74532"/>
              <a:gd name="adj2" fmla="val 27638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socket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68280"/>
            <a:ext cx="180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133720"/>
            <a:ext cx="1800" cy="358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916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establishing 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2708280"/>
            <a:ext cx="505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2303640"/>
            <a:ext cx="2160720" cy="693720"/>
          </a:xfrm>
          <a:prstGeom prst="wedgeRoundRectCallout">
            <a:avLst>
              <a:gd name="adj1" fmla="val -55495"/>
              <a:gd name="adj2" fmla="val 5472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s to server. If successful, FD_CONNECT message is sent to 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57336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414972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141720"/>
            <a:ext cx="1549440" cy="574560"/>
          </a:xfrm>
          <a:prstGeom prst="wedgeRoundRectCallout">
            <a:avLst>
              <a:gd name="adj1" fmla="val -95314"/>
              <a:gd name="adj2" fmla="val 88069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er FD_READ | FD_OOB | FD_CLO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149720"/>
            <a:ext cx="431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4149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user authentication di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941720"/>
            <a:ext cx="1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66100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6237360"/>
            <a:ext cx="50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4581360"/>
            <a:ext cx="1872000" cy="746280"/>
          </a:xfrm>
          <a:prstGeom prst="wedgeRoundRectCallout">
            <a:avLst>
              <a:gd name="adj1" fmla="val -80009"/>
              <a:gd name="adj2" fmla="val -20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ning of communication ”Protocol Version Exchange” is sent by the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6165720"/>
            <a:ext cx="431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5832360"/>
            <a:ext cx="2089440" cy="863640"/>
          </a:xfrm>
          <a:prstGeom prst="wedgeRoundRectCallout">
            <a:avLst>
              <a:gd name="adj1" fmla="val -61851"/>
              <a:gd name="adj2" fmla="val -13476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validating the server version information, client(TTSSH) version information is sent to the server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2-01T15:35:47Z</dcterms:modified>
  <cp:revision>242</cp:revision>
  <dc:subject/>
  <dc:title>DDEのしくみ</dc:title>
</cp:coreProperties>
</file>