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78D-3B23-4747-BDEB-22AE9123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04B-9A66-43E7-A390-C1125186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A5A-8504-49E7-BB85-6689398A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004-E5D4-4282-820C-16611E08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F0E-81AB-4D15-B5EB-4DF87A9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D94-CE6C-4B5A-9072-373C7458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074-99CA-4CB8-BC67-90A2C91C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37A-F90C-4C25-859D-612F6544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9C9-6B65-4973-84DC-302220E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6A1-35CA-46BA-A95F-874930C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618-A1DF-4DE6-9D90-59FEC9A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54A-B944-42F7-9093-C92293F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08ED-2987-49DD-83A8-1A7557A54D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Flow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052640"/>
            <a:ext cx="1440" cy="424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5480" y="1628640"/>
            <a:ext cx="1873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1480" y="1341360"/>
            <a:ext cx="14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2133720"/>
            <a:ext cx="502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2421000"/>
            <a:ext cx="1584360" cy="1827000"/>
          </a:xfrm>
          <a:prstGeom prst="wedgeRoundRectCallout">
            <a:avLst>
              <a:gd name="adj1" fmla="val 59611"/>
              <a:gd name="adj2" fmla="val -6526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log col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d data is stored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E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uffer is full, the old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will be overwritt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052640"/>
            <a:ext cx="1800" cy="41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916280"/>
            <a:ext cx="1944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84640"/>
            <a:ext cx="79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32360" y="1912680"/>
            <a:ext cx="1440" cy="1374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780000"/>
            <a:ext cx="1620720" cy="1116000"/>
          </a:xfrm>
          <a:prstGeom prst="wedgeRoundRectCallout">
            <a:avLst>
              <a:gd name="adj1" fmla="val -11152"/>
              <a:gd name="adj2" fmla="val -81245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 Loop contai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 sent to DDE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2276640"/>
            <a:ext cx="720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from D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r sav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ing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4000" y="5661000"/>
            <a:ext cx="4248000" cy="1035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acro comm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tsyn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used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era Term and Macro applications is synchroniz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ig amounts of data are sent by remote host, portion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may be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50:52Z</dcterms:modified>
  <cp:revision>186</cp:revision>
  <dc:subject/>
  <dc:title>DDEのしくみ</dc:title>
</cp:coreProperties>
</file>