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CEF-FC03-4B23-B0AE-939B4DD2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361-BF42-45C0-8CF3-70FCC91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9E4-5736-4F4D-A512-D56CCCEE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E17-F65B-4D1B-8E43-B5375B6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375-9BAF-415F-83A8-6A457656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486-EB95-4C78-9B3B-D0EC7B7F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ED6-C5C3-4443-A38C-C0E47A4D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671-CD9B-4D71-9246-F764277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19E-1866-4E06-8B4D-E44A7C2C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DE2-2859-43C3-82F7-48517B7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426-E0A2-41D3-A200-B0E1239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E57-0912-4F85-A785-7980D36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F22E-E01E-49B9-A4F0-9069F94402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 Fo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155736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1800" cy="1295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andle_SSH2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buffered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2340000" y="429552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rite_local_connection_buff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9:23Z</dcterms:modified>
  <cp:revision>359</cp:revision>
  <dc:subject/>
  <dc:title>DDEのしくみ</dc:title>
</cp:coreProperties>
</file>