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D367-F3FE-430A-B6EA-C10A0D72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4455-D72C-4B24-AAB7-FAD573FE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BE65-D1A7-4E33-A790-0A354059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AB3-2AE9-45B7-A79C-BFC90D91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91B8-4159-4DE8-89D3-9F34C18C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BD1-9504-4342-BBFE-3317B070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C2BE-FBEF-466F-9300-35D319D0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4EF-5E7E-417C-BCB6-F1161689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6DD-B6FD-4D87-ABC6-CB45F7D3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6C6-EA25-4C7F-9FF4-0EAA4283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504-1D74-4518-8EBA-E4FE428A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638-345C-4DA4-804A-1322CE51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7237E-6C92-4D40-A0A0-75A579F388B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 Buff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1052640"/>
            <a:ext cx="15127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50920" y="907920"/>
            <a:ext cx="1363680" cy="2013120"/>
            <a:chOff x="250920" y="907920"/>
            <a:chExt cx="1363680" cy="2013120"/>
          </a:xfrm>
        </p:grpSpPr>
        <p:sp>
          <p:nvSpPr>
            <p:cNvPr id="51" name=""/>
            <p:cNvSpPr/>
            <p:nvPr/>
          </p:nvSpPr>
          <p:spPr>
            <a:xfrm>
              <a:off x="250920" y="90792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HLogBuf  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119700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LogBuf  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0920" y="148428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Log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0920" y="177336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0920" y="206064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234936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0920" y="263700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 flipV="1">
            <a:off x="1619280" y="1047240"/>
            <a:ext cx="151272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 Buffer (not f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27320" y="1047600"/>
            <a:ext cx="2170080" cy="1306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1052640"/>
            <a:ext cx="1440" cy="18716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BuffSize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19280" y="1839960"/>
            <a:ext cx="1657440" cy="9460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19280" y="1047240"/>
            <a:ext cx="1512720" cy="14511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3640" y="4221000"/>
            <a:ext cx="15130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95280" y="4076640"/>
            <a:ext cx="1363680" cy="2013120"/>
            <a:chOff x="395280" y="4076640"/>
            <a:chExt cx="1363680" cy="2013120"/>
          </a:xfrm>
        </p:grpSpPr>
        <p:sp>
          <p:nvSpPr>
            <p:cNvPr id="68" name=""/>
            <p:cNvSpPr/>
            <p:nvPr/>
          </p:nvSpPr>
          <p:spPr>
            <a:xfrm>
              <a:off x="395280" y="407664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HLogBuf  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436572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LogBuf  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5280" y="465300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Log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5280" y="494172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5280" y="5229360"/>
              <a:ext cx="1363680" cy="2840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5280" y="551808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5280" y="5805360"/>
              <a:ext cx="1363680" cy="284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 flipV="1">
            <a:off x="1763640" y="4215960"/>
            <a:ext cx="151308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6237360"/>
            <a:ext cx="22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 Buffer (f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71680" y="4216320"/>
            <a:ext cx="2170440" cy="1881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80000" y="4221000"/>
            <a:ext cx="1800" cy="18720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BuffSize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763640" y="5008680"/>
            <a:ext cx="1657440" cy="9460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763640" y="5511960"/>
            <a:ext cx="1513080" cy="1555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5516640"/>
            <a:ext cx="215892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gradFill rotWithShape="0">
            <a:gsLst>
              <a:gs pos="0">
                <a:srgbClr val="8ae234"/>
              </a:gs>
              <a:gs pos="100000">
                <a:srgbClr val="4e9a06"/>
              </a:gs>
            </a:gsLst>
            <a:lin ang="36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ewes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1052640"/>
            <a:ext cx="1440" cy="129672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gradFill rotWithShape="0">
            <a:gsLst>
              <a:gs pos="0">
                <a:srgbClr val="8ae234"/>
              </a:gs>
              <a:gs pos="100000">
                <a:srgbClr val="4e9a06"/>
              </a:gs>
            </a:gsLst>
            <a:lin ang="36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ewes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1080" y="4221000"/>
            <a:ext cx="1440" cy="18720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56360" y="148428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and Time F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573408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and Time F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6165720"/>
            <a:ext cx="1800" cy="2876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6453360"/>
            <a:ext cx="1224000" cy="14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308720" y="3928680"/>
            <a:ext cx="1800" cy="25290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006960" y="3933720"/>
            <a:ext cx="1306800" cy="18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3933720"/>
            <a:ext cx="1440" cy="158292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100000" sp="100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1871640"/>
            <a:ext cx="2700360" cy="187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DDE buffer is a ring buffer, if the buffer 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ull, the oldest data is overwritt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Log buffer and DDE buffer are the sa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 contains the size of valid data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tes beginning from DSt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If logs are collected and macro runs at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e time, LStart and DStart, LCount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 will contain the equal val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2484360"/>
            <a:ext cx="792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1-29T15:45:03Z</dcterms:modified>
  <cp:revision>138</cp:revision>
  <dc:subject/>
  <dc:title>DDEのしくみ</dc:title>
</cp:coreProperties>
</file>