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0C9C-3AF3-48EA-93CE-89A9C7810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5537-4A0A-42DC-A93A-08B2F8EF4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B4DE-1025-4AF6-9AE2-AAA797F41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068D-0BF8-4599-A2F8-74DDF9393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14D3-DE3F-455A-9208-82A3CCE5F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70AD-F65F-419E-8C22-8E6277CBF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3500-68DF-42B1-93BF-E90B32C7D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001A-DDD0-4E1B-BDA8-F4B38ED37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B594-DA32-4AB0-9349-77949DA54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E8A2-CB3B-4E4E-8924-1DACC4DE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7D00-C30B-400B-8F74-88D82813A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EF6E-6901-413D-9445-F1336B77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6C48829-E57B-4491-BC83-5D0624D2371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1440" cy="172872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18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18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19280" y="5373720"/>
            <a:ext cx="151272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806560" y="5373720"/>
            <a:ext cx="151308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0840"/>
            <a:ext cx="1440" cy="29196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99160" y="4040280"/>
            <a:ext cx="1828800" cy="457200"/>
          </a:xfrm>
          <a:prstGeom prst="rect">
            <a:avLst/>
          </a:prstGeom>
          <a:solidFill>
            <a:srgbClr val="c6d9f1"/>
          </a:solidFill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22840" y="5869080"/>
            <a:ext cx="1828800" cy="457200"/>
          </a:xfrm>
          <a:prstGeom prst="rect">
            <a:avLst/>
          </a:prstGeom>
          <a:solidFill>
            <a:srgbClr val="c6d9f1"/>
          </a:solidFill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66040" y="4040280"/>
            <a:ext cx="1523880" cy="457200"/>
          </a:xfrm>
          <a:prstGeom prst="rect">
            <a:avLst/>
          </a:prstGeom>
          <a:noFill/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466040" y="4649760"/>
            <a:ext cx="1523880" cy="457200"/>
          </a:xfrm>
          <a:prstGeom prst="rect">
            <a:avLst/>
          </a:prstGeom>
          <a:noFill/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MeTTv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466040" y="5261040"/>
            <a:ext cx="1523880" cy="457200"/>
          </a:xfrm>
          <a:prstGeom prst="rect">
            <a:avLst/>
          </a:prstGeom>
          <a:noFill/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MeTTi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99160" y="4878360"/>
            <a:ext cx="1828800" cy="457200"/>
          </a:xfrm>
          <a:prstGeom prst="rect">
            <a:avLst/>
          </a:prstGeom>
          <a:solidFill>
            <a:srgbClr val="c6d9f1"/>
          </a:solidFill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roWizard.ex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466040" y="5869080"/>
            <a:ext cx="1523880" cy="457200"/>
          </a:xfrm>
          <a:prstGeom prst="rect">
            <a:avLst/>
          </a:prstGeom>
          <a:solidFill>
            <a:srgbClr val="c6d9f1"/>
          </a:solidFill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0560" y="3811680"/>
            <a:ext cx="4572000" cy="1440"/>
          </a:xfrm>
          <a:prstGeom prst="line">
            <a:avLst/>
          </a:prstGeom>
          <a:ln w="3240">
            <a:solidFill>
              <a:srgbClr val="3a5f8b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0560" y="5564160"/>
            <a:ext cx="2209680" cy="1440"/>
          </a:xfrm>
          <a:prstGeom prst="line">
            <a:avLst/>
          </a:prstGeom>
          <a:ln w="3240">
            <a:solidFill>
              <a:srgbClr val="3a5f8b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0560" y="3811680"/>
            <a:ext cx="1440" cy="1752480"/>
          </a:xfrm>
          <a:prstGeom prst="line">
            <a:avLst/>
          </a:prstGeom>
          <a:ln w="3240">
            <a:solidFill>
              <a:srgbClr val="3a5f8b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142560" y="3811680"/>
            <a:ext cx="1440" cy="2666880"/>
          </a:xfrm>
          <a:prstGeom prst="line">
            <a:avLst/>
          </a:prstGeom>
          <a:ln w="3240">
            <a:solidFill>
              <a:srgbClr val="3a5f8b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80240" y="5564160"/>
            <a:ext cx="1440" cy="914400"/>
          </a:xfrm>
          <a:prstGeom prst="line">
            <a:avLst/>
          </a:prstGeom>
          <a:ln w="3240">
            <a:solidFill>
              <a:srgbClr val="3a5f8b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80240" y="6478560"/>
            <a:ext cx="2362320" cy="1440"/>
          </a:xfrm>
          <a:prstGeom prst="line">
            <a:avLst/>
          </a:prstGeom>
          <a:ln w="3240">
            <a:solidFill>
              <a:srgbClr val="3a5f8b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61000" y="4522680"/>
            <a:ext cx="189540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Arial"/>
              </a:rPr>
              <a:t>LogMeTT Pack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627960" y="4192560"/>
            <a:ext cx="838080" cy="144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085160" y="4344840"/>
            <a:ext cx="1440" cy="1143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085160" y="5487840"/>
            <a:ext cx="380880" cy="1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085160" y="4878360"/>
            <a:ext cx="380880" cy="14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28160" y="4497480"/>
            <a:ext cx="1440" cy="152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627960" y="4344840"/>
            <a:ext cx="45720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/>
  <dcterms:modified xsi:type="dcterms:W3CDTF">2015-10-03T17:36:28Z</dcterms:modified>
  <cp:revision>66</cp:revision>
  <dc:subject/>
  <dc:title>TeraTermモジュール構成</dc:title>
</cp:coreProperties>
</file>